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CEF4-E104-45EF-8F20-8570139516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вая 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ированные рисунки позаимствовал у 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Лазаренко Натальи Васильевны (к сожалению, так и не нашел ее координат). На их авторство не претенд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можно под запись. Управляется кл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под зап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перехода на следующий слайд нажать кнопку «Примеры». Это позволит корректно проинициализировать переменные на следующем слайде и осуществит правильный запуск макр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возможно, придется нажать дважды,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анимация на слайде выполняется неправильно, значит переход на него осуществлен стандартным способом, а не нажатием кнопки «Примеры» на предыдущем слайде. Для исправления нажать кнопк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авильного перехода на следующий слайд нажать кнопку «Далее» (возможно, придется нажать дважды,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анимация на слайде выполняется неправильно, значит переход на него осуществлен стандартным способом, а не нажатием кнопки «Примеры» на предыдущем слайде. Для исправления нажать кнопк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авильного перехода на следующий слайд нажать кнопку «Далее» (возможно, придется нажать дважды,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ный слайд. В офисе 2007 анимация останавлив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ормальное» положение слайда – когда в обеих цепях идет ток (красные шарики отображены в обеих цепях). Конечно, это неверно с точки зрения информатики, поэтому при переходе на этот слайд нужно быстро нажать кнопку автоматического переключателя, чтобы эта ошибка не бросалась в гл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бще, это – не ошибка, это особенности программной реализации. Дело в том, что если на слайде есть какие-то скрытые элементы, видимость которых изменяется программным способом, то при демонстрации слайда анимация таких элементов не запускается (так уж устроен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Power Point!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а как ее запустить программно, я не знаю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 приходится делать все анимированные элементы видимыми, чтобы запустить их анимацию, а уже потом, при показе слайдов, управлять видимостью этих элементов программ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в 2007 офисе вообще, анимация останавливаетс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ированные рисунки позаимствовал у 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Лазаренко Натальи Васильевны (к сожалению, так и не нашел ее координат). На их авторство не претенд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ированные рисунки позаимствовал у 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Лазаренко Натальи Васильевны (к сожалению, так и не нашел ее координат). На их авторство не претенд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D0EF-A6DD-47F2-978A-2D941E4B4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5866-AA04-47D8-B975-54875488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C72A-C454-4891-9915-3A8EC812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D9FD-BF4B-4CE9-8F1F-4492A96B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9ADA-9DF0-49A2-B956-5902A588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B9E2-B8E0-4CEF-84F5-3BEC53236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7F60-AB99-40B0-913A-5C468A64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5B25-90D9-49FD-A564-E661D757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3EBD-BEA5-42F7-A748-D056465A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EA10-8805-4CAC-A3F9-17C9C2F9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DB45-B05F-47A8-82D2-BED438C48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EACA-05CF-44B6-AC65-6D158FFF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68360" y="66690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9"/>
          <p:cNvSpPr/>
          <p:nvPr/>
        </p:nvSpPr>
        <p:spPr>
          <a:xfrm>
            <a:off x="611280" y="14842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E92E-E2C9-42A3-8A9A-EDA22C8FED9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90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Логические основы компьютер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2349360"/>
            <a:ext cx="730404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996600"/>
                </a:solidFill>
                <a:latin typeface="Arial"/>
              </a:rPr>
              <a:t>Базовые логические элементы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Автор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ергеев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Евгений Викторович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ОУ СОШ №4 г. Миньяра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Челябинской облас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rgeev73@mail.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shk4-minyar.ucoz.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7"/>
          <p:cNvSpPr/>
          <p:nvPr/>
        </p:nvSpPr>
        <p:spPr>
          <a:xfrm>
            <a:off x="609480" y="62064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1981080" y="198900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Инве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 входы инвертора подаются сигналы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 выходе инвертора появляются сигналы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в соответствии с таблицей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729400" y="2060640"/>
            <a:ext cx="3163680" cy="27684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726160" y="3654360"/>
            <a:ext cx="316368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Сумматор двоичных чисе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ое математическое сколь угодно сложное выражение может быть представлено в виде последовательности элементарных математических опера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се математические действия в компьютере сводятся к сложению двоич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снову микропроцессора составляют </a:t>
            </a:r>
            <a:r>
              <a:rPr b="1" i="1" lang="en-US" sz="3000" spc="-1" strike="noStrike">
                <a:solidFill>
                  <a:srgbClr val="cc9900"/>
                </a:solidFill>
                <a:latin typeface="Arial"/>
              </a:rPr>
              <a:t>сумматоры двоич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олусумматор. Арифметическое сложение двоичных чисел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каждом разряде образуется сумма цифр в соответствующих разрядах слагаемых, при этом возможен перенос единицы в старший разря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79600" y="4076640"/>
            <a:ext cx="243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Courier New"/>
                <a:ea typeface="Arial"/>
              </a:rPr>
              <a:t>Без перен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75640" y="55134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17175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97172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208960" y="55134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714760" y="551340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9559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2097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448080" y="55134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67240" y="4076640"/>
            <a:ext cx="243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Courier New"/>
                <a:ea typeface="Arial"/>
              </a:rPr>
              <a:t>С перено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363280" y="55134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604840" y="5513400"/>
            <a:ext cx="4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8593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097680" y="55134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601680" y="55134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684360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0977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335000" y="55134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0614000">
            <a:off x="6987960" y="5518080"/>
            <a:ext cx="360360" cy="101520"/>
          </a:xfrm>
          <a:custGeom>
            <a:avLst/>
            <a:gdLst>
              <a:gd name="textAreaLeft" fmla="*/ 63000 w 360360"/>
              <a:gd name="textAreaRight" fmla="*/ 261360 w 360360"/>
              <a:gd name="textAreaTop" fmla="*/ 13320 h 101520"/>
              <a:gd name="textAreaBottom" fmla="*/ 88200 h 10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32000" y="5443560"/>
            <a:ext cx="25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64000" y="544356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186560" y="46512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075280" y="46512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бозначим слагаемые через А и В, перенос – через Р, а сумму – через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S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аблица сложения одноразрядных двоичных чисел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684360" y="2276640"/>
          <a:ext cx="7848360" cy="3390840"/>
        </p:xfrm>
        <a:graphic>
          <a:graphicData uri="http://schemas.openxmlformats.org/drawingml/2006/table">
            <a:tbl>
              <a:tblPr/>
              <a:tblGrid>
                <a:gridCol w="1962000"/>
                <a:gridCol w="1962000"/>
                <a:gridCol w="1962360"/>
                <a:gridCol w="1962000"/>
              </a:tblGrid>
              <a:tr h="564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гаемы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но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5365800" y="3422520"/>
            <a:ext cx="378720" cy="21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359840" y="3422520"/>
            <a:ext cx="378720" cy="21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5805360"/>
            <a:ext cx="84358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чевидно, что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Р = А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360" y="2852640"/>
            <a:ext cx="5903640" cy="2808360"/>
          </a:xfrm>
          <a:prstGeom prst="rect">
            <a:avLst/>
          </a:prstGeom>
          <a:solidFill>
            <a:srgbClr val="cc990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633"/>
                </a:solidFill>
                <a:latin typeface="Garamond"/>
              </a:rPr>
              <a:t>Получаем формулу для вычисления </a:t>
            </a:r>
            <a:r>
              <a:rPr b="1" lang="en-US" sz="3700" spc="-1" strike="noStrike">
                <a:solidFill>
                  <a:srgbClr val="006633"/>
                </a:solidFill>
                <a:latin typeface="Garamond"/>
              </a:rPr>
              <a:t>S</a:t>
            </a:r>
            <a:endParaRPr b="1" lang="en-US" sz="3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сравнить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604800" y="2343240"/>
          <a:ext cx="3390840" cy="2436840"/>
        </p:xfrm>
        <a:graphic>
          <a:graphicData uri="http://schemas.openxmlformats.org/drawingml/2006/table">
            <a:tbl>
              <a:tblPr/>
              <a:tblGrid>
                <a:gridCol w="1130400"/>
                <a:gridCol w="1130400"/>
                <a:gridCol w="11300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4859280" y="2343240"/>
          <a:ext cx="3390840" cy="2436840"/>
        </p:xfrm>
        <a:graphic>
          <a:graphicData uri="http://schemas.openxmlformats.org/drawingml/2006/table">
            <a:tbl>
              <a:tblPr/>
              <a:tblGrid>
                <a:gridCol w="1130400"/>
                <a:gridCol w="1130400"/>
                <a:gridCol w="11300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>
            <a:off x="468360" y="4941720"/>
            <a:ext cx="828036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 очевидно, что они практически идентичн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тобы равенство оказалось полным нужно выражени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умножить на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1280" y="4292640"/>
            <a:ext cx="3384360" cy="504720"/>
          </a:xfrm>
          <a:prstGeom prst="rect">
            <a:avLst/>
          </a:prstGeom>
          <a:solidFill>
            <a:srgbClr val="cc99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859280" y="4292640"/>
            <a:ext cx="3384720" cy="504720"/>
          </a:xfrm>
          <a:prstGeom prst="rect">
            <a:avLst/>
          </a:prstGeom>
          <a:solidFill>
            <a:srgbClr val="cc99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633"/>
                </a:solidFill>
                <a:latin typeface="Garamond"/>
              </a:rPr>
              <a:t>Получаем формулу для вычисления </a:t>
            </a:r>
            <a:r>
              <a:rPr b="1" lang="en-US" sz="3700" spc="-1" strike="noStrike">
                <a:solidFill>
                  <a:srgbClr val="006633"/>
                </a:solidFill>
                <a:latin typeface="Garamond"/>
              </a:rPr>
              <a:t>S</a:t>
            </a:r>
            <a:endParaRPr b="1" lang="en-US" sz="3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539640" y="2205000"/>
          <a:ext cx="8280360" cy="2519280"/>
        </p:xfrm>
        <a:graphic>
          <a:graphicData uri="http://schemas.openxmlformats.org/drawingml/2006/table">
            <a:tbl>
              <a:tblPr/>
              <a:tblGrid>
                <a:gridCol w="719280"/>
                <a:gridCol w="720720"/>
                <a:gridCol w="1224000"/>
                <a:gridCol w="1081080"/>
                <a:gridCol w="1511280"/>
                <a:gridCol w="302400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¬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¬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239112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6580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86108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7076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4896000"/>
            <a:ext cx="829152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еперь, имея элементарные логические выражения, можно построить логическую схему устройства для сложения одноразрядных двоичных чисел (полусумматор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двоичного полусумматор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7148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лусумматор называется так, потому, что здесь не учитывается перенос единицы из младшего разря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3640" y="5229360"/>
            <a:ext cx="86364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08720" y="5445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148360" y="5300640"/>
            <a:ext cx="1293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195640" y="5589720"/>
            <a:ext cx="424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82920" y="5013360"/>
            <a:ext cx="86544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32000" y="4221000"/>
            <a:ext cx="865080" cy="4320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332000" y="5373720"/>
            <a:ext cx="86508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4292640"/>
            <a:ext cx="71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"/>
          <p:cNvCxnSpPr>
            <a:stCxn id="309" idx="3"/>
            <a:endCxn id="308" idx="1"/>
          </p:cNvCxnSpPr>
          <p:nvPr/>
        </p:nvCxnSpPr>
        <p:spPr>
          <a:xfrm>
            <a:off x="2211120" y="4436640"/>
            <a:ext cx="2057760" cy="793080"/>
          </a:xfrm>
          <a:prstGeom prst="bentConnector3">
            <a:avLst>
              <a:gd name="adj1" fmla="val 49921"/>
            </a:avLst>
          </a:prstGeom>
          <a:ln w="2844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313" name=""/>
          <p:cNvSpPr/>
          <p:nvPr/>
        </p:nvSpPr>
        <p:spPr>
          <a:xfrm>
            <a:off x="612720" y="4581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98560" y="57340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42920" y="5445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042920" y="4292280"/>
            <a:ext cx="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898560" y="4581360"/>
            <a:ext cx="0" cy="11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8360" y="3933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68360" y="4581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266920" y="40705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40000" y="52228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162400" y="490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А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51280" y="4505400"/>
            <a:ext cx="1891080" cy="36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88" y="6562"/>
                </a:moveTo>
                <a:lnTo>
                  <a:pt x="23735" y="6562"/>
                </a:lnTo>
                <a:lnTo>
                  <a:pt x="23735" y="30167"/>
                </a:lnTo>
                <a:lnTo>
                  <a:pt x="14586" y="55013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¬(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69680" y="3171960"/>
            <a:ext cx="24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¬(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олный одноразрядный сумматор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жен иметь три входа (А, В и Р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и два выход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11280" y="2060640"/>
          <a:ext cx="7993080" cy="4556160"/>
        </p:xfrm>
        <a:graphic>
          <a:graphicData uri="http://schemas.openxmlformats.org/drawingml/2006/table">
            <a:tbl>
              <a:tblPr/>
              <a:tblGrid>
                <a:gridCol w="1598400"/>
                <a:gridCol w="1598760"/>
                <a:gridCol w="1598760"/>
                <a:gridCol w="1598400"/>
                <a:gridCol w="159876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гаем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н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6020280" y="2925720"/>
            <a:ext cx="349920" cy="36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598160" y="2924280"/>
            <a:ext cx="34992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Формула полного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одноразрядного сумматор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ринимает значени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когда хотя бы две из трех переменных равны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 = (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B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умма равна произведению логического сложения 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на инвертированный перенос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¬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 = 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Р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¬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выражение справедливо во всех случаях, кроме одного, когда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равны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Формула полного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одноразрядного сумматор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авильное значение суммы –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Для ее получения необходимо полученное выражение сложить с произведением этих же переменных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S = (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А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cc9900"/>
                </a:solidFill>
                <a:latin typeface="Symbol"/>
                <a:ea typeface="Symbol"/>
              </a:rPr>
              <a:t>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В </a:t>
            </a:r>
            <a:r>
              <a:rPr b="1" lang="en-US" sz="3400" spc="-1" strike="noStrike">
                <a:solidFill>
                  <a:srgbClr val="cc9900"/>
                </a:solidFill>
                <a:latin typeface="Symbol"/>
                <a:ea typeface="Symbol"/>
              </a:rPr>
              <a:t>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Р</a:t>
            </a:r>
            <a:r>
              <a:rPr b="1" lang="ru-RU" sz="3400" spc="-1" strike="noStrike" baseline="-25000">
                <a:solidFill>
                  <a:srgbClr val="cc9900"/>
                </a:solidFill>
                <a:latin typeface="Arial"/>
              </a:rPr>
              <a:t>0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) </a:t>
            </a:r>
            <a:r>
              <a:rPr b="1" lang="ru-RU" sz="3400" spc="-1" strike="noStrike">
                <a:solidFill>
                  <a:srgbClr val="cc9900"/>
                </a:solidFill>
                <a:latin typeface="Symbol"/>
                <a:ea typeface="Symbol"/>
              </a:rPr>
              <a:t>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 ¬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Р </a:t>
            </a:r>
            <a:r>
              <a:rPr b="1" lang="en-US" sz="3400" spc="-1" strike="noStrike">
                <a:solidFill>
                  <a:srgbClr val="cc9900"/>
                </a:solidFill>
                <a:latin typeface="Symbol"/>
                <a:ea typeface="Symbol"/>
              </a:rPr>
              <a:t>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(А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cc9900"/>
                </a:solidFill>
                <a:latin typeface="Symbol"/>
                <a:ea typeface="Symbol"/>
              </a:rPr>
              <a:t>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В </a:t>
            </a:r>
            <a:r>
              <a:rPr b="1" lang="ru-RU" sz="3400" spc="-1" strike="noStrike">
                <a:solidFill>
                  <a:srgbClr val="cc9900"/>
                </a:solidFill>
                <a:latin typeface="Symbol"/>
                <a:ea typeface="Symbol"/>
              </a:rPr>
              <a:t>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Р</a:t>
            </a:r>
            <a:r>
              <a:rPr b="1" lang="ru-RU" sz="3400" spc="-1" strike="noStrike" baseline="-25000">
                <a:solidFill>
                  <a:srgbClr val="cc9900"/>
                </a:solidFill>
                <a:latin typeface="Arial"/>
              </a:rPr>
              <a:t>0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Базовые логические элементы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 выполняет арифметические и логические операции при помощи т.н. </a:t>
            </a:r>
            <a:r>
              <a:rPr b="1" i="1" lang="ru-RU" sz="2800" spc="-1" strike="noStrike">
                <a:solidFill>
                  <a:srgbClr val="cc9900"/>
                </a:solidFill>
                <a:latin typeface="Arial"/>
              </a:rPr>
              <a:t>базовых логических элемент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торые также еще называют венти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тиль «И» – конъюнкто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ует конъюн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ти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ЛИ» – дизъюнкто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ует дизъюн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ти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НЕ» – инверто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ует инверс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Многоразрядный сумма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строен на основе полных одноразрядных сумматоров (по одному на каждый разряд), причем таким образом, чтобы выход (перенос) младшего сумматора был подключен ко входу старшего суммат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Тригге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ажнейшая структурная единица оперативной памяти и регистров процесс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стоит из двух логических элементов «ИЛИ» и двух логических элементов «НЕ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Логическая схема триггер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9" name=""/>
          <p:cNvSpPr/>
          <p:nvPr/>
        </p:nvSpPr>
        <p:spPr>
          <a:xfrm>
            <a:off x="1476360" y="2852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771640" y="270828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771640" y="465300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476360" y="5013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97440" y="2997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92720" y="270828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292720" y="465300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997440" y="49417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516720" y="5013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338560" y="2986200"/>
            <a:ext cx="4894200" cy="1811160"/>
          </a:xfrm>
          <a:custGeom>
            <a:avLst/>
            <a:gdLst/>
            <a:ahLst/>
            <a:rect l="l" t="t" r="r" b="b"/>
            <a:pathLst>
              <a:path w="3083" h="1141">
                <a:moveTo>
                  <a:pt x="2632" y="0"/>
                </a:moveTo>
                <a:lnTo>
                  <a:pt x="3073" y="0"/>
                </a:lnTo>
                <a:lnTo>
                  <a:pt x="3083" y="325"/>
                </a:lnTo>
                <a:lnTo>
                  <a:pt x="0" y="868"/>
                </a:lnTo>
                <a:lnTo>
                  <a:pt x="0" y="1141"/>
                </a:lnTo>
                <a:lnTo>
                  <a:pt x="272" y="114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43240" y="3063960"/>
            <a:ext cx="4894200" cy="1731960"/>
          </a:xfrm>
          <a:custGeom>
            <a:avLst/>
            <a:gdLst/>
            <a:ahLst/>
            <a:rect l="l" t="t" r="r" b="b"/>
            <a:pathLst>
              <a:path w="3083" h="1091">
                <a:moveTo>
                  <a:pt x="264" y="0"/>
                </a:moveTo>
                <a:lnTo>
                  <a:pt x="0" y="3"/>
                </a:lnTo>
                <a:lnTo>
                  <a:pt x="0" y="275"/>
                </a:lnTo>
                <a:lnTo>
                  <a:pt x="3083" y="818"/>
                </a:lnTo>
                <a:lnTo>
                  <a:pt x="3083" y="1091"/>
                </a:lnTo>
                <a:lnTo>
                  <a:pt x="2631" y="1089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187280" y="2347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87280" y="4579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596360" y="45799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40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450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0"/>
                            </p:stCondLst>
                            <p:childTnLst>
                              <p:par>
                                <p:cTn id="7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500"/>
                            </p:stCondLst>
                            <p:childTnLst>
                              <p:par>
                                <p:cTn id="7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6000"/>
                            </p:stCondLst>
                            <p:childTnLst>
                              <p:par>
                                <p:cTn id="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6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7000"/>
                            </p:stCondLst>
                            <p:childTnLst>
                              <p:par>
                                <p:cTn id="7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75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80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85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900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Работа триггер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обычном состоянии на входы триггер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одан сигнал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и триггер хранит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подаче сигнала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на вход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триггер принимает значение на выходе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начение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подаче сигнала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на вход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триггер возвращается в свое исходное состояние – хранит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Составные</a:t>
            </a:r>
            <a:r>
              <a:rPr b="1" lang="en-US" sz="4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элементы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ая логическая операция может быть представлена через конъюнкцию, дизъюнкцию и инверси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ой сколь угодно сложный элемент компьютера может быть сконструирован из элементарных венти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игналы-аргументы и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игналы-функции 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ентили оперируют с электрическими импульсами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мпульс имеется –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огический смысл сигнала «1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мпульса нет –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огический смысл сигнала «0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 входы вентиля подаются импульсы – значения аргументов, на выходе вентиля появляется сигнал – значение функ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типа «И»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(конъюнктор)</a:t>
            </a:r>
            <a:endParaRPr b="1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40516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671920" y="18334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98116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26880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55608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305280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142092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1406520" y="3862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4"/>
          <p:cNvSpPr/>
          <p:nvPr/>
        </p:nvSpPr>
        <p:spPr>
          <a:xfrm>
            <a:off x="1403280" y="509256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5"/>
          <p:cNvSpPr/>
          <p:nvPr/>
        </p:nvSpPr>
        <p:spPr>
          <a:xfrm>
            <a:off x="140652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6"/>
          <p:cNvSpPr/>
          <p:nvPr/>
        </p:nvSpPr>
        <p:spPr>
          <a:xfrm>
            <a:off x="3052800" y="63277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7"/>
          <p:cNvSpPr/>
          <p:nvPr/>
        </p:nvSpPr>
        <p:spPr>
          <a:xfrm>
            <a:off x="457524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8"/>
          <p:cNvSpPr/>
          <p:nvPr/>
        </p:nvSpPr>
        <p:spPr>
          <a:xfrm>
            <a:off x="4575240" y="5165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9"/>
          <p:cNvSpPr/>
          <p:nvPr/>
        </p:nvSpPr>
        <p:spPr>
          <a:xfrm>
            <a:off x="4578480" y="3941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0"/>
          <p:cNvSpPr/>
          <p:nvPr/>
        </p:nvSpPr>
        <p:spPr>
          <a:xfrm>
            <a:off x="4568760" y="272088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1"/>
          <p:cNvSpPr/>
          <p:nvPr/>
        </p:nvSpPr>
        <p:spPr>
          <a:xfrm>
            <a:off x="2692440" y="2349360"/>
            <a:ext cx="869760" cy="870120"/>
          </a:xfrm>
          <a:prstGeom prst="flowChartSummingJunct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2"/>
          <p:cNvSpPr/>
          <p:nvPr/>
        </p:nvSpPr>
        <p:spPr>
          <a:xfrm>
            <a:off x="2692440" y="2349360"/>
            <a:ext cx="863640" cy="866880"/>
          </a:xfrm>
          <a:prstGeom prst="flowChartSummingJunct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3"/>
          <p:cNvSpPr/>
          <p:nvPr/>
        </p:nvSpPr>
        <p:spPr>
          <a:xfrm flipH="1">
            <a:off x="1468080" y="2781360"/>
            <a:ext cx="1222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4"/>
          <p:cNvSpPr/>
          <p:nvPr/>
        </p:nvSpPr>
        <p:spPr>
          <a:xfrm flipH="1">
            <a:off x="1468440" y="2781360"/>
            <a:ext cx="144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5"/>
          <p:cNvSpPr/>
          <p:nvPr/>
        </p:nvSpPr>
        <p:spPr>
          <a:xfrm flipH="1">
            <a:off x="1468080" y="638172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26"/>
          <p:cNvGrpSpPr/>
          <p:nvPr/>
        </p:nvGrpSpPr>
        <p:grpSpPr>
          <a:xfrm>
            <a:off x="2838600" y="6100920"/>
            <a:ext cx="504720" cy="575640"/>
            <a:chOff x="2838600" y="6100920"/>
            <a:chExt cx="504720" cy="575640"/>
          </a:xfrm>
        </p:grpSpPr>
        <p:sp>
          <p:nvSpPr>
            <p:cNvPr id="123" name="Line 27"/>
            <p:cNvSpPr/>
            <p:nvPr/>
          </p:nvSpPr>
          <p:spPr>
            <a:xfrm>
              <a:off x="283860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291168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327024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334332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2911680" y="639036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Line 32"/>
          <p:cNvSpPr/>
          <p:nvPr/>
        </p:nvSpPr>
        <p:spPr>
          <a:xfrm flipH="1">
            <a:off x="3343320" y="63882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3"/>
          <p:cNvSpPr/>
          <p:nvPr/>
        </p:nvSpPr>
        <p:spPr>
          <a:xfrm flipH="1">
            <a:off x="4637160" y="2781360"/>
            <a:ext cx="144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4"/>
          <p:cNvSpPr/>
          <p:nvPr/>
        </p:nvSpPr>
        <p:spPr>
          <a:xfrm flipH="1" flipV="1">
            <a:off x="3557160" y="278604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5"/>
          <p:cNvSpPr/>
          <p:nvPr/>
        </p:nvSpPr>
        <p:spPr>
          <a:xfrm>
            <a:off x="4997520" y="494172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6"/>
          <p:cNvSpPr/>
          <p:nvPr/>
        </p:nvSpPr>
        <p:spPr>
          <a:xfrm>
            <a:off x="4997520" y="38354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372360" y="3357720"/>
          <a:ext cx="2160360" cy="2436480"/>
        </p:xfrm>
        <a:graphic>
          <a:graphicData uri="http://schemas.openxmlformats.org/drawingml/2006/table">
            <a:tbl>
              <a:tblPr/>
              <a:tblGrid>
                <a:gridCol w="554040"/>
                <a:gridCol w="631800"/>
                <a:gridCol w="9745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3924360" y="501336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4360" y="386064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21600" y="1674720"/>
            <a:ext cx="414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ая цепь из дву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оследовательно подключенны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ыключ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614 0.52547 L -0.17969 0.52361 L -0.18038 -0.00046 L -0.00052 -0.00046 E">
                                      <p:cBhvr>
                                        <p:cTn id="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L 0.34618 -2.22222E-006 L 0.34566 0.52431 L -0.00069 0.52431 L -0.00069 -0.00092 L -0.00052 -2.22222E-006 E">
                                      <p:cBhvr>
                                        <p:cTn id="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0.00017 -0.16898 L 0.34652 -0.16597 L 0.34652 0.35996 L 0.00034 0.3581 L 0.00017 0.00139 E">
                                      <p:cBhvr>
                                        <p:cTn id="1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6.93642E-007 L -0.0007 -0.34728 L 0.34653 -0.34543 L 0.34549 0.17757 L -0.00104 0.17757 L 8.33333E-007 0.00092 E">
                                      <p:cBhvr>
                                        <p:cTn id="12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0069 L 0.00087 -0.52453 L 0.3474 -0.52291 L 0.34809 0.00209 L 0.00157 -3.33333E-006 E">
                                      <p:cBhvr>
                                        <p:cTn id="1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4 L -0.17986 -0.00069 L -0.17934 -0.525 L 0.16719 -0.525 L 0.16719 0.00024 L -0.0007 -4.07407E-006 E">
                                      <p:cBhvr>
                                        <p:cTn id="1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687 -3.33333E-006 L -0.34635 -0.5243 L 0.00018 -0.5243 L 0.00018 0.00093 L -1.66667E-006 -3.33333E-006 E">
                                      <p:cBhvr>
                                        <p:cTn id="18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93 L -0.00104 0.16852 L -0.34687 0.16759 L -0.34531 -0.35625 L 0.00052 -0.35625 L -0.00035 -0.00093 E">
                                      <p:cBhvr>
                                        <p:cTn id="2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0.00024 L 1.11111E-006 0.34699 L -0.34722 0.34513 L -0.34618 -0.17778 L 0.00035 -0.17778 L -0.0007 -0.00116 E">
                                      <p:cBhvr>
                                        <p:cTn id="22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069 0.52616 L -0.34583 0.52454 L -0.34653 -0.00046 L 1.11022E-016 0.00139 E">
                                      <p:cBhvr>
                                        <p:cTn id="24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2695680" y="2341440"/>
            <a:ext cx="869760" cy="870120"/>
          </a:xfrm>
          <a:prstGeom prst="flowChartSummingJunct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2844720" y="6093000"/>
            <a:ext cx="504720" cy="575640"/>
            <a:chOff x="2844720" y="6093000"/>
            <a:chExt cx="504720" cy="575640"/>
          </a:xfrm>
        </p:grpSpPr>
        <p:sp>
          <p:nvSpPr>
            <p:cNvPr id="139" name="Line 5"/>
            <p:cNvSpPr/>
            <p:nvPr/>
          </p:nvSpPr>
          <p:spPr>
            <a:xfrm>
              <a:off x="2844720" y="617580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6"/>
            <p:cNvSpPr/>
            <p:nvPr/>
          </p:nvSpPr>
          <p:spPr>
            <a:xfrm>
              <a:off x="2917800" y="609300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7"/>
            <p:cNvSpPr/>
            <p:nvPr/>
          </p:nvSpPr>
          <p:spPr>
            <a:xfrm>
              <a:off x="3276360" y="617580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3349440" y="609300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2917800" y="638244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Line 11"/>
          <p:cNvSpPr/>
          <p:nvPr/>
        </p:nvSpPr>
        <p:spPr>
          <a:xfrm flipH="1">
            <a:off x="1476000" y="638028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 flipH="1">
            <a:off x="3349800" y="63802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3"/>
          <p:cNvSpPr/>
          <p:nvPr/>
        </p:nvSpPr>
        <p:spPr>
          <a:xfrm flipH="1">
            <a:off x="1476360" y="2778120"/>
            <a:ext cx="1222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4"/>
          <p:cNvSpPr/>
          <p:nvPr/>
        </p:nvSpPr>
        <p:spPr>
          <a:xfrm flipH="1" flipV="1">
            <a:off x="3563640" y="277812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8"/>
          <p:cNvSpPr/>
          <p:nvPr/>
        </p:nvSpPr>
        <p:spPr>
          <a:xfrm flipH="1">
            <a:off x="1474920" y="2779560"/>
            <a:ext cx="144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3274920" y="5877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2556000" y="58770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типа «ИЛИ»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(дизъюнктор)</a:t>
            </a:r>
            <a:endParaRPr b="1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Line 23"/>
          <p:cNvSpPr/>
          <p:nvPr/>
        </p:nvSpPr>
        <p:spPr>
          <a:xfrm>
            <a:off x="4643280" y="5300640"/>
            <a:ext cx="0" cy="10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6"/>
          <p:cNvSpPr/>
          <p:nvPr/>
        </p:nvSpPr>
        <p:spPr>
          <a:xfrm>
            <a:off x="4643280" y="2781360"/>
            <a:ext cx="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7"/>
          <p:cNvSpPr/>
          <p:nvPr/>
        </p:nvSpPr>
        <p:spPr>
          <a:xfrm>
            <a:off x="4067280" y="3716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8"/>
          <p:cNvSpPr/>
          <p:nvPr/>
        </p:nvSpPr>
        <p:spPr>
          <a:xfrm>
            <a:off x="4067280" y="465300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9"/>
          <p:cNvSpPr/>
          <p:nvPr/>
        </p:nvSpPr>
        <p:spPr>
          <a:xfrm>
            <a:off x="5219640" y="3716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0"/>
          <p:cNvSpPr/>
          <p:nvPr/>
        </p:nvSpPr>
        <p:spPr>
          <a:xfrm>
            <a:off x="5219640" y="465300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1"/>
          <p:cNvSpPr/>
          <p:nvPr/>
        </p:nvSpPr>
        <p:spPr>
          <a:xfrm flipH="1">
            <a:off x="4068360" y="530064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2"/>
          <p:cNvSpPr/>
          <p:nvPr/>
        </p:nvSpPr>
        <p:spPr>
          <a:xfrm flipH="1">
            <a:off x="4068360" y="371808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3"/>
          <p:cNvSpPr/>
          <p:nvPr/>
        </p:nvSpPr>
        <p:spPr>
          <a:xfrm flipH="1">
            <a:off x="1476360" y="2778120"/>
            <a:ext cx="1222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4"/>
          <p:cNvSpPr/>
          <p:nvPr/>
        </p:nvSpPr>
        <p:spPr>
          <a:xfrm>
            <a:off x="3059280" y="2719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5"/>
          <p:cNvSpPr/>
          <p:nvPr/>
        </p:nvSpPr>
        <p:spPr>
          <a:xfrm>
            <a:off x="1409760" y="2719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36"/>
          <p:cNvSpPr/>
          <p:nvPr/>
        </p:nvSpPr>
        <p:spPr>
          <a:xfrm>
            <a:off x="1409760" y="385452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7"/>
          <p:cNvSpPr/>
          <p:nvPr/>
        </p:nvSpPr>
        <p:spPr>
          <a:xfrm>
            <a:off x="1409760" y="5084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0"/>
          <p:cNvSpPr/>
          <p:nvPr/>
        </p:nvSpPr>
        <p:spPr>
          <a:xfrm>
            <a:off x="3059280" y="6310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1"/>
          <p:cNvSpPr/>
          <p:nvPr/>
        </p:nvSpPr>
        <p:spPr>
          <a:xfrm>
            <a:off x="4572000" y="6310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2"/>
          <p:cNvSpPr/>
          <p:nvPr/>
        </p:nvSpPr>
        <p:spPr>
          <a:xfrm>
            <a:off x="1406520" y="6310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3"/>
          <p:cNvSpPr/>
          <p:nvPr/>
        </p:nvSpPr>
        <p:spPr>
          <a:xfrm>
            <a:off x="4578480" y="52340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4"/>
          <p:cNvSpPr/>
          <p:nvPr/>
        </p:nvSpPr>
        <p:spPr>
          <a:xfrm>
            <a:off x="4584600" y="364500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5"/>
          <p:cNvSpPr/>
          <p:nvPr/>
        </p:nvSpPr>
        <p:spPr>
          <a:xfrm>
            <a:off x="4572000" y="27097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6"/>
          <p:cNvSpPr/>
          <p:nvPr/>
        </p:nvSpPr>
        <p:spPr>
          <a:xfrm>
            <a:off x="4008600" y="44132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7"/>
          <p:cNvSpPr/>
          <p:nvPr/>
        </p:nvSpPr>
        <p:spPr>
          <a:xfrm>
            <a:off x="3056040" y="2728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48"/>
          <p:cNvSpPr/>
          <p:nvPr/>
        </p:nvSpPr>
        <p:spPr>
          <a:xfrm>
            <a:off x="1406520" y="2728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49"/>
          <p:cNvSpPr/>
          <p:nvPr/>
        </p:nvSpPr>
        <p:spPr>
          <a:xfrm>
            <a:off x="1406520" y="386388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50"/>
          <p:cNvSpPr/>
          <p:nvPr/>
        </p:nvSpPr>
        <p:spPr>
          <a:xfrm>
            <a:off x="1406520" y="5094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51"/>
          <p:cNvSpPr/>
          <p:nvPr/>
        </p:nvSpPr>
        <p:spPr>
          <a:xfrm>
            <a:off x="3056040" y="6319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52"/>
          <p:cNvSpPr/>
          <p:nvPr/>
        </p:nvSpPr>
        <p:spPr>
          <a:xfrm>
            <a:off x="4568760" y="6319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53"/>
          <p:cNvSpPr/>
          <p:nvPr/>
        </p:nvSpPr>
        <p:spPr>
          <a:xfrm>
            <a:off x="1403280" y="6319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54"/>
          <p:cNvSpPr/>
          <p:nvPr/>
        </p:nvSpPr>
        <p:spPr>
          <a:xfrm>
            <a:off x="4575240" y="52434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55"/>
          <p:cNvSpPr/>
          <p:nvPr/>
        </p:nvSpPr>
        <p:spPr>
          <a:xfrm>
            <a:off x="4581360" y="3654360"/>
            <a:ext cx="12096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6"/>
          <p:cNvSpPr/>
          <p:nvPr/>
        </p:nvSpPr>
        <p:spPr>
          <a:xfrm>
            <a:off x="4568760" y="2719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57"/>
          <p:cNvSpPr/>
          <p:nvPr/>
        </p:nvSpPr>
        <p:spPr>
          <a:xfrm>
            <a:off x="5157720" y="44226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2698920" y="2349360"/>
            <a:ext cx="863280" cy="866880"/>
          </a:xfrm>
          <a:prstGeom prst="flowChartSummingJunct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8"/>
          <p:cNvSpPr/>
          <p:nvPr/>
        </p:nvSpPr>
        <p:spPr>
          <a:xfrm>
            <a:off x="3419640" y="426708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9"/>
          <p:cNvSpPr/>
          <p:nvPr/>
        </p:nvSpPr>
        <p:spPr>
          <a:xfrm>
            <a:off x="5578560" y="426708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0"/>
          <p:cNvSpPr/>
          <p:nvPr/>
        </p:nvSpPr>
        <p:spPr>
          <a:xfrm>
            <a:off x="240984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1"/>
          <p:cNvSpPr/>
          <p:nvPr/>
        </p:nvSpPr>
        <p:spPr>
          <a:xfrm>
            <a:off x="2627280" y="184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2"/>
          <p:cNvSpPr/>
          <p:nvPr/>
        </p:nvSpPr>
        <p:spPr>
          <a:xfrm>
            <a:off x="298620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3"/>
          <p:cNvSpPr/>
          <p:nvPr/>
        </p:nvSpPr>
        <p:spPr>
          <a:xfrm>
            <a:off x="327492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4"/>
          <p:cNvSpPr/>
          <p:nvPr/>
        </p:nvSpPr>
        <p:spPr>
          <a:xfrm>
            <a:off x="356220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372360" y="3357720"/>
          <a:ext cx="2160360" cy="2436480"/>
        </p:xfrm>
        <a:graphic>
          <a:graphicData uri="http://schemas.openxmlformats.org/drawingml/2006/table">
            <a:tbl>
              <a:tblPr/>
              <a:tblGrid>
                <a:gridCol w="554040"/>
                <a:gridCol w="631800"/>
                <a:gridCol w="9745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5041800" y="1674720"/>
            <a:ext cx="362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ая цепь из дву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араллельно подключенны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ыключ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545 0.13519 L 0.10434 0.13611 L 0.10295 0.36667 L 0.16614 0.36759 L 0.16614 0.52593 L -0.17969 0.52408 L -0.18038 -0.00046 L -0.00052 -0.00046 E">
                                      <p:cBhvr>
                                        <p:cTn id="30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0.34566 -2.22222E-006 L 0.34757 0.13519 L 0.28368 0.13519 L 0.28368 0.36713 L 0.34531 0.36759 L 0.34531 0.52477 L -0.00104 0.52454 L -0.00122 -0.00092 L -0.00104 -2.22222E-006 E">
                                      <p:cBhvr>
                                        <p:cTn id="32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-0.00191 -0.1669 L 0.34583 -0.16852 L 0.34722 -0.02986 L 0.28437 -0.02986 L 0.28437 0.20023 L 0.34687 0.20162 L 0.34722 0.35903 L -0.00035 0.35857 L 0.00017 0.00139 E">
                                      <p:cBhvr>
                                        <p:cTn id="34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3.7037E-007 L -0.00122 -0.34745 L 0.346 -0.3456 L 0.34687 -0.20972 L 0.28368 -0.2088 L 0.28368 0.0213 L 0.34531 0.02083 L 0.34514 0.17778 L 3.33333E-006 0.18009 L -0.00052 0.00093 E">
                                      <p:cBhvr>
                                        <p:cTn id="36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0.00023 L -0.17986 -0.00069 L -0.17934 -0.525 L 0.16718 -0.525 L 0.16701 -0.38935 L 0.10312 -0.38842 L 0.10312 -0.15787 L 0.16701 -0.15694 L 0.16718 0.00023 L -0.0007 -3.33333E-006 E">
                                      <p:cBhvr>
                                        <p:cTn id="38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583 0.00047 L -0.34635 -0.5243 L 0.00017 -0.5243 L 0.00104 -0.38796 L -0.06181 -0.3875 L -0.06181 -0.15787 L 0.00069 -0.15694 L 0.00017 0.00093 L 1.11022E-016 -3.33333E-006 E">
                                      <p:cBhvr>
                                        <p:cTn id="40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0046 L 0.00069 -0.5243 L 0.34722 -0.52268 L 0.34705 -0.38703 L 0.28403 -0.38657 L 0.28437 -0.15787 L 0.34705 -0.15648 L 0.34809 0.00232 L 0.00139 0.00023 E">
                                      <p:cBhvr>
                                        <p:cTn id="42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93 L -4.44444E-006 0.15648 L -0.34618 0.15648 L -0.34618 -0.36806 L 0.0007 -0.36806 L 0.00035 -0.23102 L -0.06215 -0.23009 L -0.06319 1.11111E-006 L -0.00034 -0.00093 E">
                                      <p:cBhvr>
                                        <p:cTn id="4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.00115 L -0.0625 0.00023 L -0.0632 0.23078 L -0.0007 0.23125 L -0.00035 0.38865 L -0.34722 0.3875 L -0.34618 -0.13542 L -0.0007 -0.13635 L 1.11111E-006 -0.00024 E">
                                      <p:cBhvr>
                                        <p:cTn id="4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139 0.1375 L -0.06111 0.13704 L -0.06146 0.36852 L 0.00104 0.3676 L 0.00069 0.52616 L -0.34583 0.52454 L -0.34653 -0.00046 L 1.11022E-016 0.00139 E">
                                      <p:cBhvr>
                                        <p:cTn id="48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3 L 1.94444E-006 0.11945 L 0.0625 0.11991 L 0.06285 0.27732 L -0.28403 0.27616 L -0.28299 -0.24699 L 0.0625 -0.24791 L 0.0625 -0.1118 L 0.00035 -0.1118 L 0.00035 0.00023 E">
                                      <p:cBhvr>
                                        <p:cTn id="50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545 0.13519 L 0.22934 0.13611 L 0.22934 0.36667 L 0.16614 0.36759 L 0.16614 0.52593 L -0.17969 0.52408 L -0.18038 -0.00046 L -0.00052 -0.00046 E">
                                      <p:cBhvr>
                                        <p:cTn id="52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0.34566 -2.22222E-006 L 0.34757 0.13519 L 0.41007 0.13519 L 0.41007 0.36713 L 0.34687 0.36759 L 0.34531 0.52477 L -0.00104 0.52454 L -0.00122 -0.00092 L -0.00104 -2.22222E-006 E">
                                      <p:cBhvr>
                                        <p:cTn id="54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-0.00191 -0.1669 L 0.34583 -0.16852 L 0.34722 -0.02986 L 0.40972 -0.02986 L 0.40972 0.2007 L 0.34652 0.20162 L 0.34722 0.35903 L -0.00035 0.35857 L 0.00017 0.00139 E">
                                      <p:cBhvr>
                                        <p:cTn id="56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3.7037E-007 L -0.00122 -0.34745 L 0.346 -0.3456 L 0.34687 -0.20972 L 0.41007 -0.2088 L 0.40972 0.0213 L 0.34531 0.02083 L 0.34514 0.17778 L 3.33333E-006 0.18009 L -0.00052 0.00093 E">
                                      <p:cBhvr>
                                        <p:cTn id="58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3 L -0.17986 -0.00069 L -0.17934 -0.525 L 0.16719 -0.525 L 0.16701 -0.38935 L 0.22969 -0.38796 L 0.22969 -0.15694 L 0.16701 -0.15694 L 0.16719 0.00023 L -0.0007 -3.33333E-006 E">
                                      <p:cBhvr>
                                        <p:cTn id="60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583 0.00047 L -0.34635 -0.5243 L 0.00017 -0.5243 L 0.00104 -0.38796 L 0.06389 -0.3875 L 0.06424 -0.15787 L 0.00069 -0.15694 L 0.00017 0.00093 L 1.11022E-016 -3.33333E-006 E">
                                      <p:cBhvr>
                                        <p:cTn id="62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0046 L 0.00069 -0.5243 L 0.34722 -0.52268 L 0.34705 -0.38703 L 0.41007 -0.38796 L 0.41007 -0.15648 L 0.34705 -0.15648 L 0.34809 0.00232 L 0.00139 0.00023 E">
                                      <p:cBhvr>
                                        <p:cTn id="64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93 L -4.44444E-006 0.15648 L -0.34618 0.15648 L -0.34618 -0.36806 L 0.0007 -0.36806 L 0.00035 -0.23102 L 0.06389 -0.23009 L 0.0632 -0.00093 L -0.00034 -0.00093 E">
                                      <p:cBhvr>
                                        <p:cTn id="66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.00115 L 0.06215 0.00069 L 0.06319 0.23125 L -0.0007 0.23125 L -0.00035 0.38865 L -0.34722 0.3875 L -0.34618 -0.13542 L -0.0007 -0.13635 L 1.11111E-006 -0.00024 E">
                                      <p:cBhvr>
                                        <p:cTn id="68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139 0.1375 L 0.06424 0.1375 L 0.06424 0.36713 L 0.00104 0.3676 L 0.00069 0.52616 L -0.34583 0.52454 L -0.34653 -0.00046 L 1.11022E-016 0.00139 E">
                                      <p:cBhvr>
                                        <p:cTn id="70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023 L -0.00052 0.11875 L -0.06354 0.11991 L -0.06319 0.27732 L -0.41007 0.27616 L -0.40903 -0.24699 L -0.06354 -0.24791 L -0.06354 -0.1118 L -0.00052 -0.1118 L 0.00017 0.0007 E">
                                      <p:cBhvr>
                                        <p:cTn id="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Line 54"/>
          <p:cNvSpPr/>
          <p:nvPr/>
        </p:nvSpPr>
        <p:spPr>
          <a:xfrm>
            <a:off x="4913280" y="328464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"/>
          <p:cNvSpPr/>
          <p:nvPr/>
        </p:nvSpPr>
        <p:spPr>
          <a:xfrm>
            <a:off x="2689200" y="2349360"/>
            <a:ext cx="870120" cy="870120"/>
          </a:xfrm>
          <a:prstGeom prst="flowChartSummingJunct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"/>
          <p:cNvGrpSpPr/>
          <p:nvPr/>
        </p:nvGrpSpPr>
        <p:grpSpPr>
          <a:xfrm>
            <a:off x="2838600" y="6100920"/>
            <a:ext cx="504720" cy="575640"/>
            <a:chOff x="2838600" y="6100920"/>
            <a:chExt cx="504720" cy="575640"/>
          </a:xfrm>
        </p:grpSpPr>
        <p:sp>
          <p:nvSpPr>
            <p:cNvPr id="196" name="Line 4"/>
            <p:cNvSpPr/>
            <p:nvPr/>
          </p:nvSpPr>
          <p:spPr>
            <a:xfrm>
              <a:off x="283860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5"/>
            <p:cNvSpPr/>
            <p:nvPr/>
          </p:nvSpPr>
          <p:spPr>
            <a:xfrm>
              <a:off x="291168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6"/>
            <p:cNvSpPr/>
            <p:nvPr/>
          </p:nvSpPr>
          <p:spPr>
            <a:xfrm>
              <a:off x="327024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7"/>
            <p:cNvSpPr/>
            <p:nvPr/>
          </p:nvSpPr>
          <p:spPr>
            <a:xfrm>
              <a:off x="334332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8"/>
            <p:cNvSpPr/>
            <p:nvPr/>
          </p:nvSpPr>
          <p:spPr>
            <a:xfrm>
              <a:off x="2911680" y="639036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Line 9"/>
          <p:cNvSpPr/>
          <p:nvPr/>
        </p:nvSpPr>
        <p:spPr>
          <a:xfrm flipH="1">
            <a:off x="4637160" y="2787480"/>
            <a:ext cx="144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 flipH="1">
            <a:off x="1469880" y="6388200"/>
            <a:ext cx="13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3343320" y="63882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1469880" y="2786040"/>
            <a:ext cx="1222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3"/>
          <p:cNvSpPr/>
          <p:nvPr/>
        </p:nvSpPr>
        <p:spPr>
          <a:xfrm flipH="1" flipV="1">
            <a:off x="3557160" y="278604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 flipH="1">
            <a:off x="1468440" y="2787480"/>
            <a:ext cx="144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3268800" y="58849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2549520" y="58849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типа «НЕ»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(инвертор)</a:t>
            </a:r>
            <a:endParaRPr b="1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Oval 20"/>
          <p:cNvSpPr/>
          <p:nvPr/>
        </p:nvSpPr>
        <p:spPr>
          <a:xfrm>
            <a:off x="3052800" y="63277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1"/>
          <p:cNvSpPr/>
          <p:nvPr/>
        </p:nvSpPr>
        <p:spPr>
          <a:xfrm>
            <a:off x="457524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2"/>
          <p:cNvSpPr/>
          <p:nvPr/>
        </p:nvSpPr>
        <p:spPr>
          <a:xfrm>
            <a:off x="4575240" y="5165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3"/>
          <p:cNvSpPr/>
          <p:nvPr/>
        </p:nvSpPr>
        <p:spPr>
          <a:xfrm>
            <a:off x="4578480" y="3941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4"/>
          <p:cNvSpPr/>
          <p:nvPr/>
        </p:nvSpPr>
        <p:spPr>
          <a:xfrm>
            <a:off x="4568760" y="272088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5"/>
          <p:cNvSpPr/>
          <p:nvPr/>
        </p:nvSpPr>
        <p:spPr>
          <a:xfrm>
            <a:off x="305280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6"/>
          <p:cNvSpPr/>
          <p:nvPr/>
        </p:nvSpPr>
        <p:spPr>
          <a:xfrm>
            <a:off x="142092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27"/>
          <p:cNvSpPr/>
          <p:nvPr/>
        </p:nvSpPr>
        <p:spPr>
          <a:xfrm>
            <a:off x="1406520" y="3862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8"/>
          <p:cNvSpPr/>
          <p:nvPr/>
        </p:nvSpPr>
        <p:spPr>
          <a:xfrm>
            <a:off x="1403280" y="509256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9"/>
          <p:cNvSpPr/>
          <p:nvPr/>
        </p:nvSpPr>
        <p:spPr>
          <a:xfrm>
            <a:off x="140652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41"/>
          <p:cNvGrpSpPr/>
          <p:nvPr/>
        </p:nvGrpSpPr>
        <p:grpSpPr>
          <a:xfrm>
            <a:off x="5513400" y="4508640"/>
            <a:ext cx="504720" cy="575640"/>
            <a:chOff x="5513400" y="4508640"/>
            <a:chExt cx="504720" cy="575640"/>
          </a:xfrm>
        </p:grpSpPr>
        <p:sp>
          <p:nvSpPr>
            <p:cNvPr id="221" name="Line 42"/>
            <p:cNvSpPr/>
            <p:nvPr/>
          </p:nvSpPr>
          <p:spPr>
            <a:xfrm>
              <a:off x="5513400" y="459144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43"/>
            <p:cNvSpPr/>
            <p:nvPr/>
          </p:nvSpPr>
          <p:spPr>
            <a:xfrm>
              <a:off x="5586480" y="450864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4"/>
            <p:cNvSpPr/>
            <p:nvPr/>
          </p:nvSpPr>
          <p:spPr>
            <a:xfrm>
              <a:off x="5945040" y="459144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5"/>
            <p:cNvSpPr/>
            <p:nvPr/>
          </p:nvSpPr>
          <p:spPr>
            <a:xfrm>
              <a:off x="6018120" y="450864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6"/>
            <p:cNvSpPr/>
            <p:nvPr/>
          </p:nvSpPr>
          <p:spPr>
            <a:xfrm>
              <a:off x="5586480" y="479808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Line 47"/>
          <p:cNvSpPr/>
          <p:nvPr/>
        </p:nvSpPr>
        <p:spPr>
          <a:xfrm flipH="1">
            <a:off x="4912920" y="479736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8"/>
          <p:cNvSpPr/>
          <p:nvPr/>
        </p:nvSpPr>
        <p:spPr>
          <a:xfrm flipH="1" flipV="1">
            <a:off x="5992920" y="4795920"/>
            <a:ext cx="488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9"/>
          <p:cNvSpPr/>
          <p:nvPr/>
        </p:nvSpPr>
        <p:spPr>
          <a:xfrm>
            <a:off x="5919840" y="429264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0"/>
          <p:cNvSpPr/>
          <p:nvPr/>
        </p:nvSpPr>
        <p:spPr>
          <a:xfrm>
            <a:off x="5200560" y="42926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5"/>
          <p:cNvSpPr/>
          <p:nvPr/>
        </p:nvSpPr>
        <p:spPr>
          <a:xfrm flipH="1">
            <a:off x="4912920" y="328464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6"/>
          <p:cNvSpPr/>
          <p:nvPr/>
        </p:nvSpPr>
        <p:spPr>
          <a:xfrm>
            <a:off x="6497640" y="328464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57"/>
          <p:cNvSpPr/>
          <p:nvPr/>
        </p:nvSpPr>
        <p:spPr>
          <a:xfrm>
            <a:off x="6431040" y="472608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8"/>
          <p:cNvSpPr/>
          <p:nvPr/>
        </p:nvSpPr>
        <p:spPr>
          <a:xfrm>
            <a:off x="6424560" y="322416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59"/>
          <p:cNvSpPr/>
          <p:nvPr/>
        </p:nvSpPr>
        <p:spPr>
          <a:xfrm>
            <a:off x="4878360" y="32209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60"/>
          <p:cNvSpPr/>
          <p:nvPr/>
        </p:nvSpPr>
        <p:spPr>
          <a:xfrm>
            <a:off x="4863960" y="4726080"/>
            <a:ext cx="12096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5"/>
          <p:cNvSpPr/>
          <p:nvPr/>
        </p:nvSpPr>
        <p:spPr>
          <a:xfrm>
            <a:off x="3199320" y="384660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¬1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7"/>
          <p:cNvSpPr/>
          <p:nvPr/>
        </p:nvSpPr>
        <p:spPr>
          <a:xfrm>
            <a:off x="5141880" y="38354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2"/>
          <p:cNvSpPr/>
          <p:nvPr/>
        </p:nvSpPr>
        <p:spPr>
          <a:xfrm>
            <a:off x="2692440" y="2354400"/>
            <a:ext cx="863640" cy="866520"/>
          </a:xfrm>
          <a:prstGeom prst="flowChartSummingJunct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7164360" y="3429000"/>
          <a:ext cx="1368360" cy="1461960"/>
        </p:xfrm>
        <a:graphic>
          <a:graphicData uri="http://schemas.openxmlformats.org/drawingml/2006/table">
            <a:tbl>
              <a:tblPr/>
              <a:tblGrid>
                <a:gridCol w="503280"/>
                <a:gridCol w="8650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¬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4712760" y="1674720"/>
            <a:ext cx="39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ая цепь с одни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втоматическим выключате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4 L -0.17986 -0.00069 L -0.17934 -0.525 L 0.16719 -0.525 L 0.16719 0.00024 L -0.0007 -4.07407E-006 E">
                                      <p:cBhvr>
                                        <p:cTn id="78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687 -3.33333E-006 L -0.34635 -0.5243 L 0.00018 -0.5243 L 0.00018 0.00093 L -1.66667E-006 -3.33333E-006 E">
                                      <p:cBhvr>
                                        <p:cTn id="80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93 L -0.00104 0.16852 L -0.34687 0.16759 L -0.34531 -0.35625 L 0.00052 -0.35625 L -0.00035 -0.00093 E">
                                      <p:cBhvr>
                                        <p:cTn id="82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0.00024 L 1.11111E-006 0.34699 L -0.34722 0.34513 L -0.34618 -0.17778 L 0.00035 -0.17778 L -0.0007 -0.00116 E">
                                      <p:cBhvr>
                                        <p:cTn id="84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069 0.52616 L -0.34583 0.52454 L -0.34653 -0.00046 L 1.11022E-016 0.00139 E">
                                      <p:cBhvr>
                                        <p:cTn id="86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614 0.52547 L -0.17969 0.52361 L -0.18038 -0.00046 L -0.00052 -0.00046 E">
                                      <p:cBhvr>
                                        <p:cTn id="88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L 0.34618 -2.22222E-006 L 0.34566 0.52431 L -0.00069 0.52431 L -0.00069 -0.00092 L -0.00052 -2.22222E-006 E">
                                      <p:cBhvr>
                                        <p:cTn id="90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0.00017 -0.16898 L 0.34652 -0.16597 L 0.34652 0.35996 L 0.00034 0.3581 L 0.00017 0.00139 E">
                                      <p:cBhvr>
                                        <p:cTn id="92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6.93642E-007 L -0.0007 -0.34728 L 0.34653 -0.34543 L 0.34549 0.17757 L -0.00104 0.17757 L 8.33333E-007 0.00092 E">
                                      <p:cBhvr>
                                        <p:cTn id="94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0069 L 0.00087 -0.52453 L 0.3474 -0.52291 L 0.34809 0.00209 L 0.00157 -3.33333E-006 E">
                                      <p:cBhvr>
                                        <p:cTn id="96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047 L -0.17257 0.00047 L -0.17239 -0.2199 L 0.00018 -0.2199 L 0.00018 0.00093 L -1.94444E-006 0.00047 E">
                                      <p:cBhvr>
                                        <p:cTn id="98" dur="1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44444E-006 L 0.00035 0.21898 L -0.17204 0.21828 L -0.17222 -0.00116 L -4.72222E-006 -0.00047 E">
                                      <p:cBhvr>
                                        <p:cTn id="100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0.00023 L 0.17049 -0.00023 L 0.17031 0.22014 L -0.00104 0.22014 L -0.00104 -0.0007 L -0.00087 -0.00023 E">
                                      <p:cBhvr>
                                        <p:cTn id="102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 L -0.00035 -0.22106 L 0.171 -0.22037 L 0.17118 0.00116 L 4.16667E-006 0.00046 E">
                                      <p:cBhvr>
                                        <p:cTn id="104" dur="1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Конъюнк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651640" y="2865600"/>
            <a:ext cx="3205080" cy="15508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667480" y="4010040"/>
            <a:ext cx="3182760" cy="14810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5675400" y="5137200"/>
            <a:ext cx="3217680" cy="13161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ходы конъюнктора пода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ыходе конъюнктора появля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соответствии с таблицей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Дизъюнк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ходы дизъюнктора пода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ыходе дизъюнктора появля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соответствии с таблицей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651640" y="2060640"/>
            <a:ext cx="338436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10:07Z</dcterms:created>
  <dc:creator>Сергеев Евгений</dc:creator>
  <dc:description/>
  <dc:language>en-US</dc:language>
  <cp:lastModifiedBy>Сергеев Евгений</cp:lastModifiedBy>
  <dcterms:modified xsi:type="dcterms:W3CDTF">2010-09-29T14:53:58Z</dcterms:modified>
  <cp:revision>118</cp:revision>
  <dc:subject/>
  <dc:title>Слайд 1</dc:title>
</cp:coreProperties>
</file>